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DFA13-A6C1-42E2-97A4-DC4DD883E7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63186-5E2D-4CC9-A172-C08D4B52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AFCFB-5B5C-4BCB-A732-BAEBDEB8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CCA6B-EA89-4A42-9534-1A696F8958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D9A3C-DD95-4963-86A0-5B21E53C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CF695-FECC-4330-BD01-6EAF5160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5E11A-D2DE-4D55-813A-D82266F9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7CD4D-E106-4F72-ACF8-EB133543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60BCC-80FC-42CD-A783-918FCD2A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A7DBE-0365-482C-BB6E-C46C0068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E5AE3-31CB-4B96-887A-F2691600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9EA13-BD93-4EFD-9003-B255DFA1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D614-E945-410C-A7CA-E375B8A24E2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492280"/>
            <a:ext cx="51814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SimHei"/>
                <a:ea typeface="SimHei"/>
              </a:rPr>
              <a:t>第七节 呼吸困难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困难的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困难对患者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有无呼吸困难相关的疾病史或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低效性呼吸型态  与上呼吸道梗阻有关，与心肺功能不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气体交换受损  与心肺功能不全、肺部感染等引起有效肺组织减少、肺弹性减退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活动无耐力  与呼吸困难所致能量消耗增加和缺氧有关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语言沟通障碍  与严重喘息有关；与辅助呼吸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自理能力缺陷  与严重呼吸困难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定义  呼吸困难是指患者主观上感到空气不足，呼吸费力；客观上常有呼吸频率、深度和节律的改变，严重时可出现鼻翼扇动、发绀、端坐呼吸、辅助呼吸肌参与活动等表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病因  包括呼吸系统疾病、循环系统疾病、中毒、血液系统疾病、神经精神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临床表现  肺源性呼吸困难常见有三种类型：吸气性呼吸困难、呼气性呼吸困难、混合性呼吸困难。吸气性呼吸困难表现为吸气时间明显延长，吸气显著困难，主要表现为“三凹征”；呼气性呼吸困难表现为呼气时间延长或缓慢，呼气费力，可伴哮鸣音；混合性呼吸困难表现为吸气与呼气均感费力。左心衰竭主要表现劳力性呼吸困难、夜间阵发性呼吸困难、端坐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护理评估要点  呼吸困难的特点、伴随症状、呼吸困难对患者的影响、有无呼吸困难相关的疾病史或诱发因素、诊断、治疗与护理经过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呼吸困难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阐述呼吸困难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呼吸困难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解释呼吸困难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呼吸困难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困难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yspne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患者主观上感到空气不足，呼吸费力；客观上常有呼吸频率、深度和节律的改变，严重时可出现鼻翼扇动、发绀、端坐呼吸、辅助呼吸肌参与活动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589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系统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血液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神经精神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系统疾病  由于呼吸系统疾病引起的通气和（或）换气功能障碍，导致缺氧和（或）二氧化碳潴留而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系统疾病  主要因左心衰竭和（或）右心衰竭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中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血液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神经精神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肺源性呼吸困难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有三种类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吸气性呼吸困难：表现为吸气时间明显延长，吸气显著困难，重者由于呼吸肌极度用力，胸腔负压增大，吸气时胸骨上窝、锁骨上窝和肋间隙明显凹陷，称为“三凹征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呼气性呼吸困难：主要表现为呼气时间延长或缓慢，呼气费力，可伴哮鸣音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混合性呼吸困难：表现为吸气与呼气均感费力，呼吸频率增快、变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P1010238"/>
          <p:cNvPicPr/>
          <p:nvPr/>
        </p:nvPicPr>
        <p:blipFill>
          <a:blip r:embed="rId1"/>
          <a:stretch/>
        </p:blipFill>
        <p:spPr>
          <a:xfrm>
            <a:off x="2411280" y="1197000"/>
            <a:ext cx="4042080" cy="41767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15" name="Line 5"/>
          <p:cNvSpPr/>
          <p:nvPr/>
        </p:nvSpPr>
        <p:spPr>
          <a:xfrm>
            <a:off x="1897200" y="2362320"/>
            <a:ext cx="1595160" cy="1930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H="1">
            <a:off x="4284720" y="2060640"/>
            <a:ext cx="2735280" cy="267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1835280" y="5157720"/>
            <a:ext cx="2095200" cy="7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2340000" y="5300640"/>
            <a:ext cx="4518000" cy="604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吸气性呼吸困难  三 凹 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28600" y="19875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锁骨上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7341480" y="1720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胸骨上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871200" y="486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肋间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8820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心源性呼吸困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左心衰竭：劳力性呼吸困难、夜间阵发性呼吸困难 、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端坐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右心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性呼吸困难：在尿毒症、糖尿病酮症酸中毒时，出现深而规则的呼吸，可伴有鼾声，称为酸中毒大呼吸。急性感染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增快。吗啡、巴比妥类药物、有机磷农药中毒时，呼吸浅慢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神经、精神性呼吸困难：重症颅脑疾病呼吸慢而深，常伴有呼吸节律的改变。精神因素引起者呼吸频速浅表，发生呼吸性碱中毒，出现口周、肢体麻木或手足抽搐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血液源性呼吸困难：重度贫血、高铁血红蛋白血症等，呼吸急促、心率增快。急性大出血或休克时呼吸增快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43:36Z</dcterms:modified>
  <cp:revision>223</cp:revision>
  <dc:subject/>
  <dc:title>内科护理学</dc:title>
</cp:coreProperties>
</file>